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5212D-ACA8-4CB7-9A86-F1AAA7CDE6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45937-0F4B-44E4-9262-D34ACBF11F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305CF-0BF5-4DC9-BF1C-335FCA0A2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E30BC-024D-4EE4-B9A5-2BC366DC57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0B9EB-F83E-4FE1-99AD-5948C0D901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activity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r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B7C0A-6A1A-40D4-96B5-A48267D4C4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2714F-88E9-4935-82CE-1A9D7133CD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23060-B678-4DE4-B3C2-A7D0CCE45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51DFE-B4A7-4678-B97D-AE0B074F8B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8E4AD-63EE-4A0B-A834-E65BC0327C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B4B09-D34E-44F7-9F73-61FF745B04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D14FC-0178-42BD-8D4F-CDAA9E9566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F3686-FFA6-4675-BCA4-ADE09402E7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41B07-66B7-4113-8A94-8ACEE3CBD3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D39FF-DE5B-4D23-86EE-2AB24AF8E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F334A-3CE1-46D1-A810-EB75E36EA3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F5725-5452-4BCB-B145-9312B1A94B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E24E9-5DAA-4A83-BB8E-0DA6E10FD4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D5401-3EDB-4123-BD8A-6AE2FA301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4AC47-58F5-4F94-BADE-CD0B5AD748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A7C28-047D-4E4D-B5F7-695C696494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9B71E-AA14-4568-A0FC-822C6E3EDE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60750-7F4F-44D9-88CF-4EA6828ABF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30356-77A6-41D6-8FD0-6A85584346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D1FD4-1BFE-4530-A588-3E7362AF65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F585F-CE46-4436-8895-1B9AB02E1E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850D97-56E2-47CF-B7BF-6FB411BF2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5F58BB-CA24-4884-B111-BD0283BE6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DBDC76-2505-48AE-A60E-816B6E126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1526F2-6E05-45A5-B9A0-D09796794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92A2C6-947D-4D1D-B01D-325B88920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90B776-9E82-4422-9A44-BCFF73E31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919EF6-795C-47AA-B737-8BB30A145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CB02C-02D5-4BE8-B0FD-4A682CC7E9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F19A9B-ABD7-4136-BA43-FA38530DA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372DF0-D635-4F30-A9AD-A7FD8C687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624741-2F84-4DF5-BC28-68A52D9A6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4E1002-4AE3-4C5B-B9FA-81CEA19A6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646F43-C524-44A0-AAE7-AB5A6C033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D8DEB-ACB5-47AD-B15A-2E8FCA1FEF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59C80-C47C-4390-9F62-ECAA57C10E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67612-2E19-4C8D-A754-B2A97316F1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DCD50-8290-4BF3-A6D3-C8BEE24B6C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48691-C572-4507-BB55-D58226BC46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5A16D-F17B-4C65-A3F8-D2F437679A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23EA8-D91C-48C8-ABA2-1885C709BC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E6C47-3B3F-4A39-8457-80A5C3B47A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AD0DC-50CB-4AC3-A79E-BEBB1D7A80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70CAD-3EAE-4108-9332-390239A4C7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Système “Multi Règles” de Westgar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ystème “multi règles “ (ou règles multiples) développé par le Dr. James O. Westgard, basé sur des concepts statistiqu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mbinaison de critères de décision ou règles pour évaluer si un système est sous contrô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utilisé quand au moins 2 niveaux de contrôles sont passés avec l’analy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e peut pas être utilisé si un seul niveau de contrôle est utilis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Picture 9" descr="westgard_lecturing"/>
          <p:cNvPicPr/>
          <p:nvPr/>
        </p:nvPicPr>
        <p:blipFill>
          <a:blip r:embed="rId1"/>
          <a:stretch/>
        </p:blipFill>
        <p:spPr>
          <a:xfrm>
            <a:off x="4114800" y="4267080"/>
            <a:ext cx="3657600" cy="23688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0"/>
          <p:cNvSpPr/>
          <p:nvPr/>
        </p:nvSpPr>
        <p:spPr>
          <a:xfrm>
            <a:off x="6095880" y="4495680"/>
            <a:ext cx="22100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r. Westg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Espace réservé du pied de page 3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DF470-16B6-4E8F-85D7-71F8EA9CC4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5" descr="7_glu_control-1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28195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7_glu_control_2"/>
          <p:cNvPicPr/>
          <p:nvPr/>
        </p:nvPicPr>
        <p:blipFill>
          <a:blip r:embed="rId2"/>
          <a:stretch/>
        </p:blipFill>
        <p:spPr>
          <a:xfrm>
            <a:off x="457200" y="3429000"/>
            <a:ext cx="835812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223AF-6DE8-4F0B-97F2-A98B5A9141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Répons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Jours 21, 22, 24, 26, 27, 30, 31, 33, 34, 36-44 – sous contrôl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Jours 23, 28, 29 – 1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Verdana"/>
              </a:rPr>
              <a:t>2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Jour 25 - 1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Jour 32 – 2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Jour 35 - R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9236F-4045-4D6D-8026-99AA75FBFF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ooter Placeholder 1"/>
          <p:cNvSpPr/>
          <p:nvPr/>
        </p:nvSpPr>
        <p:spPr>
          <a:xfrm>
            <a:off x="457200" y="6248520"/>
            <a:ext cx="434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Titre du système muti règles de Westgard</a:t>
            </a: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24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739880"/>
            <a:ext cx="365760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Règle 1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Règle 2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Règle 1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Règle R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Règle 4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Verdana"/>
              </a:rPr>
              <a:t>1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Règle 10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657600" y="1599840"/>
            <a:ext cx="4191120" cy="1523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3886200" y="182880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Utilisé quand 2 niveaux de contrôle sont analysés par séri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9"/>
          <p:cNvSpPr/>
          <p:nvPr/>
        </p:nvSpPr>
        <p:spPr>
          <a:xfrm>
            <a:off x="175248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1" descr="j0082253"/>
          <p:cNvPicPr/>
          <p:nvPr/>
        </p:nvPicPr>
        <p:blipFill>
          <a:blip r:embed="rId1"/>
          <a:stretch/>
        </p:blipFill>
        <p:spPr>
          <a:xfrm>
            <a:off x="6019920" y="3124080"/>
            <a:ext cx="25016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6FCBD-DDF3-4E17-9566-D33C507203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Westgard – Règle 1</a:t>
            </a:r>
            <a:r>
              <a:rPr b="0" lang="fr-FR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Règle d’avertissement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– ne cause pas le rejet du te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 des deux résultats du contrôle est en dehors de ±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lerte les techniciens sur des problèmes potentie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oit alors évaluer la Règle 1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B97B5-3597-477D-911B-DDDA55AAAB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01640"/>
            <a:ext cx="82296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Westgard – Règle 2</a:t>
            </a:r>
            <a:r>
              <a:rPr b="0" lang="fr-FR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ux valeurs consécutives du contrôle pour le même niveau sont en dehors de ±2S dans la même direction, ou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deux contrôles dans la même série excèdent ±2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sultats ne peuvent pas être rend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quière une action correc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ADD96-2A13-4A99-9E93-2FB64E38B3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Westgard – R</a:t>
            </a:r>
            <a:r>
              <a:rPr b="0" lang="fr-FR" sz="3600" spc="-1" strike="noStrike" baseline="-25000">
                <a:solidFill>
                  <a:srgbClr val="000099"/>
                </a:solidFill>
                <a:latin typeface="Verdana"/>
              </a:rPr>
              <a:t>4S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 Règ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 contrôle est inférieur à –2SD et l’autre est supérieur à +2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intervalle entre les deux résultats sera par conséquent supérieur à 4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e erreur </a:t>
            </a:r>
            <a:r>
              <a:rPr b="0" lang="fr-FR" sz="3200" spc="-1" strike="noStrike">
                <a:solidFill>
                  <a:srgbClr val="ff0000"/>
                </a:solidFill>
                <a:latin typeface="Verdana"/>
              </a:rPr>
              <a:t>aléatoire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s’est produite, le test doit être rejeté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FC5B2-9B89-438F-8027-8719C4880D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Westgard – Règle4</a:t>
            </a:r>
            <a:r>
              <a:rPr b="0" lang="fr-FR" sz="3600" spc="-1" strike="noStrike" baseline="-25000">
                <a:solidFill>
                  <a:srgbClr val="000099"/>
                </a:solidFill>
                <a:latin typeface="Verdana"/>
              </a:rPr>
              <a:t>1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76312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quiert les données de plusieurs te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atre résultats consécutifs de CQ pour un niveau de contrôle sont en dehors de ±1S, ou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deux niveaux de contrôle ont des résultats consécutifs en dehors de ±1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DAB97-2D39-4512-A37B-EAAF184FD7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Westgard – Règle10</a:t>
            </a:r>
            <a:r>
              <a:rPr b="0" lang="fr-FR" sz="3600" spc="-1" strike="noStrike" baseline="-25000">
                <a:solidFill>
                  <a:srgbClr val="000099"/>
                </a:solidFill>
                <a:latin typeface="Verdana"/>
              </a:rPr>
              <a:t>X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3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quiert des données de plusieurs te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10 résultats consécutifs pour un niveau de contrôle sont du même côté de la moyenne, ou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deux niveaux de contrôle ont cinq résultats consécutifs du même côté de la moyen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Line 5"/>
          <p:cNvSpPr/>
          <p:nvPr/>
        </p:nvSpPr>
        <p:spPr>
          <a:xfrm>
            <a:off x="4724280" y="83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FC7EE-7B27-4E1A-995C-B1A04E430C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QC Multi Règles de Westgar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3" descr="flow3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481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9147C-09B3-4F99-B12D-F19D609DA5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65280"/>
            <a:ext cx="7772400" cy="66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99"/>
                </a:solidFill>
                <a:latin typeface="Verdana"/>
              </a:rPr>
              <a:t>Activité</a:t>
            </a:r>
            <a:br>
              <a:rPr sz="3800"/>
            </a:br>
            <a:endParaRPr b="0" lang="en-US" sz="3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7720" y="1371600"/>
            <a:ext cx="7239240" cy="28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300" spc="-1" strike="noStrike">
                <a:solidFill>
                  <a:srgbClr val="000000"/>
                </a:solidFill>
                <a:latin typeface="Verdana"/>
              </a:rPr>
              <a:t>En utilisant le système multi règles de Westgard, décrivez les valeurs de contrôles quotidiennes de la diapositive suivante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2:26:00Z</dcterms:created>
  <dc:creator>Robin Barteluk</dc:creator>
  <dc:description/>
  <dc:language>en-US</dc:language>
  <cp:lastModifiedBy>dolmazonv</cp:lastModifiedBy>
  <dcterms:modified xsi:type="dcterms:W3CDTF">2010-04-08T14:13:34Z</dcterms:modified>
  <cp:revision>12</cp:revision>
  <dc:subject/>
  <dc:title>Westgard Multirule System</dc:title>
</cp:coreProperties>
</file>